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228240" y="228240"/>
            <a:ext cx="4419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800240" y="0"/>
            <a:ext cx="205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533160"/>
            <a:ext cx="457200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457200" y="4038480"/>
            <a:ext cx="6019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87631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4343040" y="8763120"/>
            <a:ext cx="25131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6E89-481E-49F5-B354-846082EA8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343040" y="8763120"/>
            <a:ext cx="25131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4DB9-3B13-432F-AC83-F8A37A7A3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87631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240" y="228240"/>
            <a:ext cx="4419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800240" y="0"/>
            <a:ext cx="205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5335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4038480"/>
            <a:ext cx="6019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t of demos extends the lab manual and includes experiments investigating the algorithms for scheduling and process/thread control implemented inside the Windows operating system. Demos are short experiments to be included in the lecture by the instru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1000E-9ACA-46E7-BE12-D9D89DF216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708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56905-8939-4510-98BA-C04CA8820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B0100-5C9C-443C-8C7B-88C355462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40B5-ECEE-4098-B081-7B08E78B4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88779-0A9B-4244-866C-CE3E7B2B6A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708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7088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3790B-3088-451C-A02E-B87F14E89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9A021-05DF-4DC6-B03B-32DB1E5AA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2EF94-A16F-4B59-B0EA-742728388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88E4B-4652-4F07-80B0-4A08FA312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657B2-0A4A-4945-A3EF-7BD15E051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7088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6CA6-3545-47B9-B0E2-3C0FC05B48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088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A0852-8AA3-4F5B-80A3-EC8D81A7C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56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F68F-EAA1-4E7D-A29F-5D7AB1EE04B0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04560" y="662580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computername/" TargetMode="External"/><Relationship Id="rId2" Type="http://schemas.openxmlformats.org/officeDocument/2006/relationships/hyperlink" Target="file://computer/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5.png"/><Relationship Id="rId1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5.png"/><Relationship Id="rId1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760" y="2282760"/>
            <a:ext cx="7569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4: Scheduling and Dispatch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6. De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 Explorer Lab: Column Selection And Usernam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ice additional details show for each process (icon, descrip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on View-&gt;Select Colum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username colu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username column in Task Manager with Process Explorer – what is the differenc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lect View-&gt;Show Processes From All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1BBCC-6A05-49A4-B00E-627ACBF960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 Explorer Lab: Command Lin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uble click on date/time in task bar (lower right of scree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ocess Explorer, hit F5 to refre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new process created (RUNDLL32.EX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ine command line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cmd.exe process was consuming lots of CPU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and line argument showed which .BAT file was 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31CCD-EFB0-40F7-8BEB-A0D39A3FE3C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amining CPU Tim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7640" y="1414440"/>
            <a:ext cx="3965400" cy="54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en process properties and look at CPU usage history on the performance graph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ver the mouse over a point to see the time of that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572000" y="1219320"/>
            <a:ext cx="397836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95E1B-5E53-4CA6-9A3F-19E483296B7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 Explorer Lab: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nvironment Variabl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a command prom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Notepadexe from command prom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“set  abc=xyz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ocExp, hit F5 and examine environment variables for Cmd.exe and Notepad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ice Notepad.exe does not know about the environment variable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EFC46-963E-482B-88D6-7C65C708918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cur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35640" y="1482840"/>
            <a:ext cx="3606840" cy="3887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8440" y="1212840"/>
            <a:ext cx="47898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on Security tab of process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rest of access token (username is on image ta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ups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des OS-assigned gro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s (user righ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abled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s turn these on when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really a “Resultant Set of Groups” and “Resultant Set of Privileges”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800FE-D017-4B79-A200-6E7D01F16E2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58480"/>
            <a:ext cx="894564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.NET Informa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41972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Explorer is aware of .NET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highlight with Options-&gt;Highlight .NET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properties have .NET t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details about .NET process (CLR, Appdomai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also add .NET-specific columns to process 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4724280" y="4419720"/>
            <a:ext cx="4067280" cy="2305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5254560" y="990720"/>
            <a:ext cx="3441600" cy="37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3B29-6B7A-471D-9C57-D9A9FCF502F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Statu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0840" y="10746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really like Task Manager’s Applications tab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he Window Title colu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the Window Status colum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the same Windows function as Task Manager to determine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06360" y="3833640"/>
            <a:ext cx="4452840" cy="11541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1808280" y="5118120"/>
            <a:ext cx="5562360" cy="125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9F0C9-DD67-4D3F-8124-17299EF9EA5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ab: Window Process Find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39560" y="133344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Window process finder toolbar button to identify the owner of a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Regedit and modify HKLM\System\CurrentControlSet\Control\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Options\ProductTy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457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 the window process finder target over the resulting popup to see what process owns the wind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DA218-C608-4F19-9628-A72BE216E9A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 Tool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147680"/>
            <a:ext cx="876312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oup of 12 process/system control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’d the “Ps” come fro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UNIX process listing tool i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d “p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rst PsTool was a UNIX “ps”-equivalent, Ps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l work on Windows NT4/2000/XP/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ll work remotely as well as loc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 admin rights to remo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8840" indent="-398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specify credentials with “-u” swit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e require manual remote software insta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764C9-298E-4A45-B017-A7C4D3A02D2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 Tool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file – lists &amp; closes remote file ope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shutdown – remote shutdown, lock workstation, log off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exec – run an app on a remo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 – list processes &amp; thre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uptime – system up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info – display general system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getsid – displays computer or user SI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service – service process control (like SC in X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oglist – dumps event log in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Suspend – suspend a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Kill – kill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oggedon – lists local and remote logon ses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password – change local/remote passw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B7B63-AEF7-4A17-A9F1-CCB5CEEA054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754DE-BB1D-411D-B844-66098C1F705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Kill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15880"/>
            <a:ext cx="857880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erfect complement to PsLis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sK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ilar to Resource Kit Kill and Remote 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a process running on a remote (or local) system with PsList, kill it with PsKi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like Task Manager, PsKill lets you kil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cess if you’re an ad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“Debug” privile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auto-installed remote service and TerminateProcess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409EE-BCD2-4533-A5CB-FF17A16317C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List/PsKill Lab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9640" y="1053720"/>
            <a:ext cx="838836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a command prom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Pslist on your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  -t       (tree vi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  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(autorefres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at process list on your neighbor’s mach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list  </a:t>
            </a:r>
            <a:r>
              <a:rPr b="0" lang="en-US" sz="2000" spc="-1" strike="noStrike" u="sng">
                <a:solidFill>
                  <a:srgbClr val="99cc66"/>
                </a:solidFill>
                <a:uFillTx/>
                <a:latin typeface="Arial"/>
                <a:hlinkClick r:id="rId1"/>
              </a:rPr>
              <a:t>\\computer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ll Explorer.exe on your neighbor’s work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kill </a:t>
            </a:r>
            <a:r>
              <a:rPr b="0" lang="en-US" sz="2000" spc="-1" strike="noStrike" u="sng">
                <a:solidFill>
                  <a:srgbClr val="99cc66"/>
                </a:solidFill>
                <a:uFillTx/>
                <a:latin typeface="Arial"/>
                <a:hlinkClick r:id="rId2"/>
              </a:rPr>
              <a:t>\\compu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plorer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93ED9-3D5C-4146-8D33-8C5EC35E23A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sExec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414440"/>
            <a:ext cx="85788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ly execute 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93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es console programs interactive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93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you to start programs as yourself , in alternate user credentials, or in the System accou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PsExec you ca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93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unch a remote command prompt to effec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light-weight tel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93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-enable “local only” command-line tool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IpConf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auto-installed remote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2251-71F8-4022-8831-614E673F733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9900"/>
                </a:solidFill>
                <a:latin typeface="Arial"/>
              </a:rPr>
              <a:t>PsExec Lab</a:t>
            </a:r>
            <a:endParaRPr b="0" lang="en-US" sz="44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0080" y="1484280"/>
            <a:ext cx="895356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a command prom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Regedit under System account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exec  -s   -i   c:\windows\regedit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Notepad interactively on another workstation (or to yourself if not on a network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2360" indent="-511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sexec -i  \\computer notepad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2360" indent="-511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d the Notepad process you created by examining the process tree with pslist on the remo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7760" indent="-438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parent service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4EF09-BE29-4603-BD69-DB8BC403461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/Thread Kernel Debugger Command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process [/s Session] [Address/Pid [Flags]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– display current process (not full detail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342 – display full details of process 34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829fa030 – display process identified by EPROCESS add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0 0 – summary display of all proc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process 0 7 – full details of all proc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thread [Address [Flags]]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thread – current 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thread 826e8898 – display thread identified by ETHREAD addr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view user stack, must set process contex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process &lt;address of EPROCES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context &lt;address of page directory (Dirbas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peb [Addres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!teb [Addres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0A26A-8A47-42A0-82BA-12DBA5C1235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umping Structures with Kernel Debug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t” (“Display Type”) command can format most kernel struc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ntax: “dt StructureName address –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t nt!_* - displays all OS structures known to d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: relies on type information in symbol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blic symbols have this for XP, Windows Server 2003, and Windows 2000 SP4 and la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/thread-related structu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E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ETHRE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P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T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TOK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!_JO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25B2-E35B-4773-8F71-BB4E49641C4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atching the Scheduler</a:t>
            </a:r>
            <a:br>
              <a:rPr sz="4000"/>
            </a:br>
            <a:r>
              <a:rPr b="0" lang="en-US" sz="3200" spc="-1" strike="noStrike">
                <a:solidFill>
                  <a:srgbClr val="fe9900"/>
                </a:solidFill>
                <a:latin typeface="Arial"/>
              </a:rPr>
              <a:t>Performance Monitor - Threads Object</a:t>
            </a:r>
            <a:endParaRPr b="0" lang="en-US" sz="32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6564240" cy="43434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165280" y="5410080"/>
            <a:ext cx="3993480" cy="945000"/>
          </a:xfrm>
          <a:prstGeom prst="rect">
            <a:avLst/>
          </a:prstGeom>
          <a:solidFill>
            <a:srgbClr val="004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reen snapshot from: Programs | Admin. Tools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| Performance Monitor   select “Add to Chart”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 Object: Thread.  use Ctrl-leftClick to selec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ltiple items in a selection bo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4D7FF-A9D3-4F90-A79A-12EB1A39830F}" type="slidenum">
              <a:t>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4.6.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s invesitgat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Explorer and Thread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Tools for gathering proces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rnel debugger !process and !th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5DAE0-CE16-4AF7-BEB9-4FF35CA303C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ab:  Refresh Highlight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38836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update speed to paused by pressing space 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 Notep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ocExp, hit F5 and notice new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 Notep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ocExp, hit F5 and notice Notepad in 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48132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derstanding process startup sequ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106640" indent="-48132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cting appearance of processes coming and go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13334-2B98-4ACF-91FC-48E006463AE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3680" y="220320"/>
            <a:ext cx="8069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all Sta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88484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Explorer can also show the thread call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resents sequence of functions ca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 if start address doesn’t indicate what the thread i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 if it’s a generic library start rou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67320" y="3305160"/>
            <a:ext cx="2736720" cy="7207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46600" y="1938240"/>
            <a:ext cx="2736720" cy="720720"/>
          </a:xfrm>
          <a:prstGeom prst="rect">
            <a:avLst/>
          </a:prstGeom>
          <a:gradFill rotWithShape="0">
            <a:gsLst>
              <a:gs pos="0">
                <a:srgbClr val="2f5e75"/>
              </a:gs>
              <a:gs pos="100000">
                <a:srgbClr val="66ccff"/>
              </a:gs>
            </a:gsLst>
            <a:lin ang="5400000"/>
          </a:gradFill>
          <a:ln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59680" y="4673520"/>
            <a:ext cx="2736720" cy="720720"/>
          </a:xfrm>
          <a:prstGeom prst="rect">
            <a:avLst/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5400000"/>
          </a:gradFill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70600" y="2657520"/>
            <a:ext cx="792000" cy="647640"/>
          </a:xfrm>
          <a:custGeom>
            <a:avLst/>
            <a:gdLst/>
            <a:ahLst/>
            <a:rect l="l" t="t" r="r" b="b"/>
            <a:pathLst>
              <a:path w="816" h="408">
                <a:moveTo>
                  <a:pt x="0" y="0"/>
                </a:moveTo>
                <a:cubicBezTo>
                  <a:pt x="15" y="91"/>
                  <a:pt x="30" y="182"/>
                  <a:pt x="136" y="227"/>
                </a:cubicBezTo>
                <a:cubicBezTo>
                  <a:pt x="242" y="272"/>
                  <a:pt x="522" y="242"/>
                  <a:pt x="635" y="272"/>
                </a:cubicBezTo>
                <a:cubicBezTo>
                  <a:pt x="748" y="302"/>
                  <a:pt x="782" y="355"/>
                  <a:pt x="816" y="40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56480" y="4025880"/>
            <a:ext cx="792000" cy="647640"/>
          </a:xfrm>
          <a:custGeom>
            <a:avLst/>
            <a:gdLst/>
            <a:ahLst/>
            <a:rect l="l" t="t" r="r" b="b"/>
            <a:pathLst>
              <a:path w="816" h="408">
                <a:moveTo>
                  <a:pt x="0" y="0"/>
                </a:moveTo>
                <a:cubicBezTo>
                  <a:pt x="15" y="91"/>
                  <a:pt x="30" y="182"/>
                  <a:pt x="136" y="227"/>
                </a:cubicBezTo>
                <a:cubicBezTo>
                  <a:pt x="242" y="272"/>
                  <a:pt x="522" y="242"/>
                  <a:pt x="635" y="272"/>
                </a:cubicBezTo>
                <a:cubicBezTo>
                  <a:pt x="748" y="302"/>
                  <a:pt x="782" y="355"/>
                  <a:pt x="816" y="408"/>
                </a:cubicBezTo>
              </a:path>
            </a:pathLst>
          </a:custGeom>
          <a:noFill/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4FE81-9CC7-4246-84C2-D563890FF87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all Sta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824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Stack to view call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s functions in reverse chronological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 that start address on Threads tab is different than first function shown in st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because all user threads start in a Windows library function which calls the programmed start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076720" y="4157640"/>
            <a:ext cx="333396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5029200" y="301680"/>
            <a:ext cx="3376440" cy="3646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5500440" y="3357720"/>
            <a:ext cx="2128680" cy="8874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8C468-2923-432D-9773-207568DF8F8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ample: Viewing Sta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0440" y="1530000"/>
            <a:ext cx="807408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: Powerpoint was hanging for 1 minute on star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ad stack shows waiting on a printer d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362320" y="32004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438280" y="4848120"/>
            <a:ext cx="3048120" cy="577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5115D-8103-45DE-95EA-7E1EE64851A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uspending Process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8000" y="1417680"/>
            <a:ext cx="8388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Explorer can suspend a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would you want to do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’ve started a long running job but want to pause it to do something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ring the priority still leaves it running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’ve started a long download but want to have your network bandwidth temporar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multi-service system process activity is due to other processes calling upon their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spend a process that is consuming CPU time to see what that does to the system process in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0D8E5-5A0E-4ECD-A0DD-2E29FE5E218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Lab: Suspend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17680"/>
            <a:ext cx="861084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3120" indent="-573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Notep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3120" indent="-573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a command promp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10808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pend Notepad process with Process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808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to switch back to Notepad (should not respon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808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Task Manager and look at Notepad’s status in the applications ta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108080" indent="-533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me Notep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548560" y="0"/>
          <a:ext cx="595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48560" y="0"/>
                    <a:ext cx="595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FCC34-C4A5-4E6E-B26C-D342323A675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14:36:48Z</dcterms:created>
  <dc:creator>David A. Solomon, Mark E. Russinovich, and Andreas Polze</dc:creator>
  <dc:description/>
  <dc:language>en-US</dc:language>
  <cp:lastModifiedBy>Andreas Polze</cp:lastModifiedBy>
  <cp:lastPrinted>2005-06-05T20:22:41Z</cp:lastPrinted>
  <dcterms:modified xsi:type="dcterms:W3CDTF">2005-06-30T21:30:11Z</dcterms:modified>
  <cp:revision>45</cp:revision>
  <dc:subject>Windows Operating Systems Internals Course</dc:subject>
  <dc:title>Unit OS4: Demos</dc:title>
</cp:coreProperties>
</file>